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FAE-EDE0-4AF2-B86E-E1AD3CC0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271-F81A-47E8-A680-54EEAF5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09B-2729-41EC-95F2-C084599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2A1-F88A-4EF6-8209-F33477D4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A7CD-AC5D-4D33-9712-1906665A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576-C437-4A8A-A776-9B410C8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4E9B-96F8-41E8-85DD-533101A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8EC-CE96-484E-999B-CC34FAA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D94-C3F5-4F81-ABBC-B586794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9B22-E122-4A2C-833D-756D4B81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E974-0189-4EA6-AA0C-5518123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EB3-245A-4AA6-ABCC-7628154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C30-D505-43C9-A75D-E089B2E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8B89-369F-43A0-B6D2-9159741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597-0CE6-4B15-90E6-43F6D669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F11E-1188-4AFC-8F6F-86A84DA7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16B4-610A-4513-BD36-47F86809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79F-B4F1-4C50-9A67-B751E7D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F35-233F-4D72-A1F0-F3CE516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1B5-03F8-4D0B-826D-759D2B9A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DB0-D8F1-47D5-9531-761F237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EA7-E978-4B38-9ACC-BD9EAE1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70C-DAF2-45FD-826B-2B51795B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01-DE94-4196-8226-9195A5D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3F2-E9DF-4505-BD5A-D923A533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03A-C5D2-4F04-8A6C-E40534678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04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160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9200" y="175248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 V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37120" y="1752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 V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492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129120" y="32004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A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25280" y="3168720"/>
            <a:ext cx="65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irect Refernce to something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one generally famili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30960" y="29718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057400" y="2971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 is to ________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nounce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19520" y="3168720"/>
            <a:ext cx="57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tain is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inten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nounce is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onunc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918440" y="3168720"/>
            <a:ext cx="56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could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should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 __ instead of mus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903320" y="3168720"/>
            <a:ext cx="26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hould hav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ust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1981080" y="2895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oman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man is to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828800" y="3124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ancé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an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14840" y="3168720"/>
            <a:ext cx="556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Further is to 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rther is to __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894680" y="3168720"/>
            <a:ext cx="4405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ything Addit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ist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2666880" y="19051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fine: Statione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09080" y="3168720"/>
            <a:ext cx="43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lead is to pres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d is to _________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17360" y="3168720"/>
            <a:ext cx="50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anything addit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390680" y="316872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-u-r-t-h-e-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912320" y="316872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refers to dist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897560" y="316872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-a-r-t-h-e-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915560" y="31687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a false im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03320" y="31687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-l-l-u-s-i-o-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895760" y="316872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 t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s writin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903680" y="316872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-t-a-t-i-o-n-e-r-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800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in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13400" y="3168720"/>
            <a:ext cx="42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of the wo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means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is not restri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899720" y="3168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-o-o-s-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11960" y="3168720"/>
            <a:ext cx="65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erican system of quo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s works in 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919520" y="3168720"/>
            <a:ext cx="70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) She said, “ Flamingoes are pink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06200" y="3168720"/>
            <a:ext cx="31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d = 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yed = 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910880" y="3168720"/>
            <a:ext cx="373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ttled Financi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Uncoi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919160" y="3168720"/>
            <a:ext cx="52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he defintion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 of Split infini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1905480" y="316872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eparated from its 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to instantly be kill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918080" y="316872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maintain a verb or a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89720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0160" y="3168720"/>
            <a:ext cx="36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Station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914840" y="3168720"/>
            <a:ext cx="44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we Capital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itle of a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946160" y="316872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itle takes the plac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rsons name or is part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na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913040" y="31687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make nou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ding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–fu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04760" y="316872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dding 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909440" y="3168720"/>
            <a:ext cx="43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nd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s of March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19520" y="3168720"/>
            <a:ext cx="544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ch 15 and it’s the da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 cautious because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th of Caes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906200" y="3168720"/>
            <a:ext cx="54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ubjunctive mood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6"/>
          <p:cNvSpPr/>
          <p:nvPr/>
        </p:nvSpPr>
        <p:spPr>
          <a:xfrm>
            <a:off x="1905120" y="2590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xpress wishes and signal hypothetical situ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910880" y="31687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922040" y="3168720"/>
            <a:ext cx="61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mpt (Us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no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a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0872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fixe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925640" y="3168720"/>
            <a:ext cx="63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quotation mark indic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916640" y="3168720"/>
            <a:ext cx="69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ct words of the speaker or wri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03680" y="316872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L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7560" y="3168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l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06560" y="31687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: i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396440" y="312408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impression or deceptive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5</cp:lastModifiedBy>
  <dcterms:modified xsi:type="dcterms:W3CDTF">2010-05-18T16:20:30Z</dcterms:modified>
  <cp:revision>21</cp:revision>
  <dc:subject/>
  <dc:title>Jeopardy</dc:title>
</cp:coreProperties>
</file>